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168-DE54-4979-9990-88C286F0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8163-CA9B-42BD-85A9-D7431329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BF5D-AC6B-4183-95ED-B2E3D666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538-02E7-4675-B610-9796DFA9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041-9327-4968-99E5-01EB894E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E88-64AF-4379-BA2F-282CD840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408A-7358-48C4-847E-4215D97C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F5D-44B7-4D73-994D-A4FD8D78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3E51-17A7-43A5-B7DC-54EA6206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FACB-168A-4C80-B85C-6125B418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B2F-D66C-4318-92EA-2AD76C59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F932-4664-4357-9CDB-F5308128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82BE1-AEA8-465D-AF33-3B341422A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792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11240" y="-914400"/>
            <a:ext cx="12474720" cy="881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-95400" y="-1000080"/>
            <a:ext cx="12368520" cy="87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6T08:40:11Z</dcterms:created>
  <dc:creator>Andrea Todd</dc:creator>
  <dc:description/>
  <dc:language>en-US</dc:language>
  <cp:lastModifiedBy>Beth McPherson</cp:lastModifiedBy>
  <dcterms:modified xsi:type="dcterms:W3CDTF">2021-10-15T09:56:22Z</dcterms:modified>
  <cp:revision>26</cp:revision>
  <dc:subject/>
  <dc:title>PowerPoint Presentation</dc:title>
</cp:coreProperties>
</file>